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7D1-E2D9-4A9A-9A60-39EE240E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1AB-1694-42FE-BF83-4D50651F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AFF-4120-4CD4-8EDD-2F49548A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6BE-CC8A-49BF-8062-DB1433F5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628-1B7C-4A0B-A978-BED9453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4BA-E41D-4464-9AE3-7BCCA44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5D2-7CFE-4414-B7A2-80309FD8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55C-80EB-47A0-B112-77D3505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431-4620-48A3-B00F-568D489C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D0B-92E9-49C8-AE88-DFDE578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914-9EF8-4B39-A0B2-E4FBA5C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B6D-1A97-4387-A7B3-4267E62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D38-3109-4F2E-8809-8F546894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age effect the way you tas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aharia Bate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Problem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get older will your taste buds get older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Hypothese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your age will effect your taste buds. I think that as you get older your taste buds get older also. So when you are older you can’t taste as well as you us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Material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on juice,pop tart,cracker,and wal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rt for all my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eople of different ag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na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Procedure*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ll m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y 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5 seconds to make a c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ll th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y conclu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sult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onclusion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 because older people did react differently to the tastes than the younger.I noticed that it took the older people longer to make a choice than the you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your taste buds replace themselves every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5-07T20:43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